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C824-CF0D-4079-AA62-511B77E8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1712-5D9F-4834-BD1D-131DCEE0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C7F-A71D-4ECF-8560-C9BD7871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EBFD-6E1C-4282-9D83-E4F8A9F6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0BE3-178C-4ABA-B8F2-F94685AB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6B8A-BF88-4770-9129-668AE5D7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7107-F277-45FE-A430-5CA7429E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CDB9-F525-41FB-B19E-C2143457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C410-49E4-4EE8-8EC4-FF3DE6B1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CC7D-1775-4FAF-A370-A9553893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2562-2FC2-454A-A2BD-FC992E75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83A0-04F3-426F-870E-84A316AF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9975-5AC6-4E8E-9DE9-89B4283D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1FC4-7D4D-4D52-8AE3-4205C937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C3B9-07EA-44BC-8429-3FB28905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28E7-4C2B-4605-88F5-3BEC1368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FA13-92AC-42B4-9BD0-858DBDE9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75B6-2DCD-4C96-A04A-8C7491CA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B5C7-8AF3-4968-8FBB-B35F5665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F92F-5621-485E-9214-F804BDEC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ECC6-F02D-4388-BF6B-6A779E15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9740-821C-4F53-BCDC-B4B8A51A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B928-BDC2-4AEB-B112-E67CCF26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7ABB-E287-4BA3-9DD8-83E2C32E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9C12-3A3B-492E-BF9C-14E7C28E14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CB80-830F-44B9-8CDE-6556319F4D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68000" y="333360"/>
            <a:ext cx="5256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9d9ff"/>
                </a:solidFill>
                <a:uFillTx/>
                <a:latin typeface="Comic Sans MS"/>
              </a:rPr>
              <a:t>Gwersi piano</a:t>
            </a:r>
            <a:endParaRPr b="1" lang="en-US" sz="28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1458000"/>
            <a:ext cx="7920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Dechreuodd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Anna, </a:t>
            </a: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Bethan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, Carol a </a:t>
            </a: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Delyth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gae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gwersi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piano </a:t>
            </a: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llynedd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afodd Carol </a:t>
            </a:r>
            <a:r>
              <a:rPr b="0" lang="cy-GB" sz="2400" spc="-1" strike="noStrike">
                <a:solidFill>
                  <a:srgbClr val="ffff00"/>
                </a:solidFill>
                <a:latin typeface="Comic Sans MS"/>
              </a:rPr>
              <a:t>dwywaith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cy-GB" sz="2400" spc="-1" strike="noStrike">
                <a:solidFill>
                  <a:srgbClr val="ffff00"/>
                </a:solidFill>
                <a:latin typeface="Comic Sans MS"/>
              </a:rPr>
              <a:t>cymaint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o </a:t>
            </a:r>
            <a:r>
              <a:rPr b="0" lang="cy-GB" sz="2400" spc="-1" strike="noStrike">
                <a:solidFill>
                  <a:srgbClr val="ffff00"/>
                </a:solidFill>
                <a:latin typeface="Comic Sans MS"/>
              </a:rPr>
              <a:t>wersi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cy-GB" sz="2400" spc="-1" strike="noStrike">
                <a:solidFill>
                  <a:srgbClr val="ffff00"/>
                </a:solidFill>
                <a:latin typeface="Comic Sans MS"/>
              </a:rPr>
              <a:t>â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cy-GB" sz="2400" spc="-1" strike="noStrike">
                <a:solidFill>
                  <a:srgbClr val="ffff00"/>
                </a:solidFill>
                <a:latin typeface="Comic Sans MS"/>
              </a:rPr>
              <a:t>Bethan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99ff"/>
                </a:solidFill>
                <a:latin typeface="Comic Sans MS"/>
              </a:rPr>
              <a:t>Cafodd Anna bedair gwers yn fwy na Delyth, ond tair gwers yn llai na Car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99ff66"/>
                </a:solidFill>
                <a:latin typeface="Comic Sans MS"/>
              </a:rPr>
              <a:t>Un deg pump gwers gafodd Delyth.</a:t>
            </a: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Sawl gwers gafodd Betha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744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8:14:36Z</dcterms:created>
  <dc:creator>Carwyn</dc:creator>
  <dc:description/>
  <dc:language>en-US</dc:language>
  <cp:lastModifiedBy>Carwyn</cp:lastModifiedBy>
  <dcterms:modified xsi:type="dcterms:W3CDTF">2009-01-06T11:58:47Z</dcterms:modified>
  <cp:revision>3</cp:revision>
  <dc:subject/>
  <dc:title>Gwersi piano</dc:title>
</cp:coreProperties>
</file>